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914B-6124-4E7C-B1FE-CEFFBE4A5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ECB9-A92E-4B63-B90C-5D67657E4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C8E2-5142-4753-8AE6-CF274A665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6B5C-F009-49AC-946C-EDB0093A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D1B5-FE1C-439E-B2EE-0579778C9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FB76-715E-4B7A-B573-D0BFCE78C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3551-298D-40B3-AC30-9D07F921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0F22-9370-4A6F-B796-65DB4F01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4930-8FEC-4851-9B8D-8510DEBE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3F67-E6B5-4074-AAC3-F384626E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20DC-88E0-428C-926A-04280C38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E3A6-A53B-4563-93DD-AC62B3E1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BC5B-A62D-4CC6-820E-3B3235B2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27BE-0DA6-4538-AE1A-25D57CC0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2009 -Facilitating Service Learning in the Elementary Classroom-Mary Ruth Town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E83F-CA6C-43A1-998E-2B0D590F3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2009 -Facilitating Service Learning in the Elementary Classroom-Mary Ruth Town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2A54-CF90-4146-9C26-AEEFE7C0E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IT’S NEVER TOO EAR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3399"/>
                </a:solidFill>
                <a:uFillTx/>
                <a:latin typeface="Arial"/>
              </a:rPr>
              <a:t>Strategies to empower children and inspire their student voice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100_2013"/>
          <p:cNvPicPr/>
          <p:nvPr/>
        </p:nvPicPr>
        <p:blipFill>
          <a:blip r:embed="rId1"/>
          <a:stretch/>
        </p:blipFill>
        <p:spPr>
          <a:xfrm>
            <a:off x="3733920" y="2514600"/>
            <a:ext cx="4572000" cy="32986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228600" y="2666880"/>
            <a:ext cx="3276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y Ruth Town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nd/3rd Grade Teac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tsburg Elementary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tsburg, T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2009 -Facilitating Service Learning in the Elementary Classroom-Mary Ruth Town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423A-3F27-4DEA-80B9-265FE4050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Arial"/>
              </a:rPr>
              <a:t>Examine Issues Co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ORTANT QUESTION TO ALWAYS ASK DURING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YOU do about this problem” -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uld you call to help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100_0291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2009 -Facilitating Service Learning in the Elementary Classroom-Mary Ruth Town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6B81-6CA8-4162-A95E-48574DE39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Reflecting on Examining Issu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….How many problems and solutions have you thought of….what were the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NG out problems and possible solution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, WRITE, WRITE AGAI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100_0007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2009 -Facilitating Service Learning in the Elementary Classroom-Mary Ruth Town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8306-24F5-4EE0-83C1-61BA994D7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Arial"/>
              </a:rPr>
              <a:t>STEP 3: Agree on a projec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cabulary: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change, Share, Respec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100_0038"/>
          <p:cNvPicPr/>
          <p:nvPr/>
        </p:nvPicPr>
        <p:blipFill>
          <a:blip r:embed="rId1"/>
          <a:stretch/>
        </p:blipFill>
        <p:spPr>
          <a:xfrm>
            <a:off x="4495680" y="1219320"/>
            <a:ext cx="4114800" cy="2185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100_0856"/>
          <p:cNvPicPr/>
          <p:nvPr/>
        </p:nvPicPr>
        <p:blipFill>
          <a:blip r:embed="rId2"/>
          <a:stretch/>
        </p:blipFill>
        <p:spPr>
          <a:xfrm>
            <a:off x="685800" y="3276720"/>
            <a:ext cx="3352680" cy="3047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100_2546"/>
          <p:cNvPicPr/>
          <p:nvPr/>
        </p:nvPicPr>
        <p:blipFill>
          <a:blip r:embed="rId3"/>
          <a:stretch/>
        </p:blipFill>
        <p:spPr>
          <a:xfrm>
            <a:off x="4495680" y="3581280"/>
            <a:ext cx="4191120" cy="27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2009 -Facilitating Service Learning in the Elementary Classroom-Mary Ruth Town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F3A9-9219-449F-B34F-0CC44D501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Agree on a projec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EE TO BE A TEAM FIRST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 TEAMWORK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CHE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QUIL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102_0623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2009 -Facilitating Service Learning in the Elementary Classroom-Mary Ruth Town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A430-2125-4D91-BCEF-2924248FA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Agree on a project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the class how to take an official vot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graph named “MOST IMPORTANT PROBLEM TO TACKL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, LEAVE THE ROOM…return when they have decided what problem they are going to add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2009 -Facilitating Service Learning in the Elementary Classroom-Mary Ruth Town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EB97-FEF4-4282-B1E0-347B66A09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AGREE ON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one disagrees they are asked to write their reasons, and present them to the clas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ION:  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game that allows kids to express their feelings about how their ideas were received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100_0300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2009 -Facilitating Service Learning in the Elementary Classroom-Mary Ruth Town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1BE5-6C3E-4918-9759-1CA982886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Step 4:  DEVELOP A PLA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of item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and meet with partner…the children have practiced phone skills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permanent chart that shows a timeline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roups, predict the out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: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oals, organization, </a:t>
            </a:r>
            <a:r>
              <a:rPr b="0" i="1" lang="en-US" sz="3200" spc="-1" strike="noStrike">
                <a:solidFill>
                  <a:srgbClr val="ff3399"/>
                </a:solidFill>
                <a:latin typeface="Arial"/>
              </a:rPr>
              <a:t>PROACTIVE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2009 -Facilitating Service Learning in the Elementary Classroom-Mary Ruth Town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CDAB-CFFC-475B-95D2-5FB222661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ALER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DO NOT OFFER TO SOLVE PROBLEMS.  THE CHILDREN NEED TO BE RESPONSIBLE FOR TROUBLESHOO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100_0754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2009 -Facilitating Service Learning in the Elementary Classroom-Mary Ruth Town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891D-3EDD-47BC-975D-B9463591D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STEP 5:  EXECUTE THE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cabulary: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tion and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, GO, GO ….don’t hold them bac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go…even if things don’t look perf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our service learning:  college bound, Veteran’s day, community pride video, lemonade stand, fund-raising, create a library, M.L.K. activities, project Christma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2009 -Facilitating Service Learning in the Elementary Classroom-Mary Ruth Town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5469-A7A8-4F28-ACCB-96B4A995C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KIDS CAN MAKE A DIF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100_0050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100_0072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2009 -Facilitating Service Learning in the Elementary Classroom-Mary Ruth Town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58FE-E77F-4250-863F-D653627F9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Look at the LEADERS Model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3399"/>
                </a:solidFill>
                <a:uFillTx/>
                <a:latin typeface="Arial"/>
              </a:rPr>
              <a:t>#1</a:t>
            </a:r>
            <a:r>
              <a:rPr b="1" lang="en-US" sz="3200" spc="-1" strike="noStrike" u="sng">
                <a:solidFill>
                  <a:srgbClr val="ff3399"/>
                </a:solidFill>
                <a:uFillTx/>
                <a:latin typeface="Arial"/>
              </a:rPr>
              <a:t> RULE of Service Learning…NEVER, NEVER, NEVER PUT WORDS IN THEIR MOUTHS! Put words in their brain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 student leadership, and voice at every ste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ower them with vocabulary-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active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cial, Civic, Environ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ittees work well and offer more kids the chance to lea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2009 -Facilitating Service Learning in the Elementary Classroom-Mary Ruth Town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3467-246F-4901-85AA-C62D5D23B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STEP 6:  REVIEW 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cabulary: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ta, results, conclusion,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and organize not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THANK YOU NOT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 PROBLEM-SOLUTION chart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he committees complete charts and compare them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2009 -Facilitating Service Learning in the Elementary Classroom-Mary Ruth Town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6C69-0168-44A0-BC93-43FB13C33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REVIEW OUTCOM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ings with community partner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d-designed evaluation of their work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d-designed self-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ION IS FUN TIM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Get your hands on a karaoke machine…encourage each child to give a speech about their experiences with service- learning for the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2009 -Facilitating Service Learning in the Elementary Classroom-Mary Ruth Town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F671-856B-4DDB-808B-870D2EAA5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STEP 7:  SHOWCASE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ne 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…to involve others…not promote oursel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ne on 4 levels: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chool, district, community and region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CTION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you proud o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your favorite memo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102_0728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2009 -Facilitating Service Learning in the Elementary Classroom-Mary Ruth Town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3BA2-04D5-402E-8EE5-2B3025FD9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de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s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100_0435"/>
          <p:cNvPicPr/>
          <p:nvPr/>
        </p:nvPicPr>
        <p:blipFill>
          <a:blip r:embed="rId1"/>
          <a:stretch/>
        </p:blipFill>
        <p:spPr>
          <a:xfrm>
            <a:off x="3886200" y="20574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2009 -Facilitating Service Learning in the Elementary Classroom-Mary Ruth Town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997F-9FA1-474C-A588-8175D3369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CLOSING REMINDER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Empower, Inspire and STRIV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ET 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ke them feel safe to fai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100_1233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2009 -Facilitating Service Learning in the Elementary Classroom-Mary Ruth Town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D01D-E9E0-45F2-8812-BB7E7D47F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Arial"/>
              </a:rPr>
              <a:t>PREPAR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 vocabu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kids by mixed-abilities into committees:  advertising, public relations, financial,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inspiring children’s lit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lk about your community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veys, surveys, surv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deos to prepare…research public service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100_0046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2009 -Facilitating Service Learning in the Elementary Classroom-Mary Ruth Town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CA57-AC9E-424A-8898-E34DF6947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Arial"/>
              </a:rPr>
              <a:t>STEP 1:  LOOK AND LISTEN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AINSTORM!!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care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worry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you interested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 ever felt like you wanted to help someone or something?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DEFINE APATHY AND EMPATHY…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2009 -Facilitating Service Learning in the Elementary Classroom-Mary Ruth Town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9D91-56F7-421B-B0C2-E38A20DDE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Arial"/>
              </a:rPr>
              <a:t>LOOK AND LISTEN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lk it out, walking tours with different them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civic, social, and environmental tours..take the same walk with 3 different themes. You get 3 different view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ty Speaker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parents…they can share their voice, read to the kids, or lead them in a short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2009 -Facilitating Service Learning in the Elementary Classroom-Mary Ruth Town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254D-1CE4-4635-B376-37745FDC9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Arial"/>
              </a:rPr>
              <a:t>LOOK AND LISTEN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 research:  Yahooligans, particularly good for environmental projects, i.e. BONNIE’S CABBAG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newspapers are great!  Group them and allow them to become detectives or superheroes!  (make capes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100_0077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2009 -Facilitating Service Learning in the Elementary Classroom-Mary Ruth Town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4569-B394-4DB4-82E9-F6A2D945D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Reflecting on Looking/Liste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952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e all your inform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start their notebook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, Write, Wri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 is a great reflection tool….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Paint a perfect world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BRAG notebook to be kept qui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MCj04326080000[1]"/>
          <p:cNvPicPr/>
          <p:nvPr/>
        </p:nvPicPr>
        <p:blipFill>
          <a:blip r:embed="rId1"/>
          <a:stretch/>
        </p:blipFill>
        <p:spPr>
          <a:xfrm rot="367800">
            <a:off x="6248160" y="3580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2009 -Facilitating Service Learning in the Elementary Classroom-Mary Ruth Town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581E-CDB5-4D64-8F2A-15A9BAE21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2:  </a:t>
            </a:r>
            <a:r>
              <a:rPr b="1" lang="en-US" sz="4400" spc="-1" strike="noStrike">
                <a:solidFill>
                  <a:srgbClr val="ff3399"/>
                </a:solidFill>
                <a:latin typeface="Arial"/>
              </a:rPr>
              <a:t>Examin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: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ine, survey, explore, analyze, categoriz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problem/solution using a graphic organiz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e all your information into categ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“phone book” for the class to refer to when needing to contact community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2009 -Facilitating Service Learning in the Elementary Classroom-Mary Ruth Town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7E22-A4D9-43FD-AFE4-C5FF24D14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Arial"/>
              </a:rPr>
              <a:t>Examine Issue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ING…teaching kids how to think and why thinking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where you as a teacher are really introducing the concept of student 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portfolio topics are a great way for students to share their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ic and think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, DROP, and THIN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15:31:26Z</dcterms:created>
  <dc:creator>pittsburg elem</dc:creator>
  <dc:description/>
  <dc:language>en-US</dc:language>
  <cp:lastModifiedBy>Scott Ganske</cp:lastModifiedBy>
  <dcterms:modified xsi:type="dcterms:W3CDTF">2011-06-17T16:31:13Z</dcterms:modified>
  <cp:revision>56</cp:revision>
  <dc:subject/>
  <dc:title>Elementary Kids and Student Voice</dc:title>
</cp:coreProperties>
</file>